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31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69.wmf" ContentType="image/x-wmf"/>
  <Override PartName="/ppt/media/image29.png" ContentType="image/png"/>
  <Override PartName="/ppt/media/image70.png" ContentType="image/png"/>
  <Override PartName="/ppt/media/image68.wmf" ContentType="image/x-wmf"/>
  <Override PartName="/ppt/media/image28.png" ContentType="image/png"/>
  <Override PartName="/ppt/media/image67.png" ContentType="image/png"/>
  <Override PartName="/ppt/media/image14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C603-D150-455B-ACD7-81B7667E7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DE1D-EAB3-41FC-AF0A-E52E7B027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DDFD-12C1-4785-BC90-5E7161E5A8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39D8-0DA0-4DDD-B44B-6310D27DA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4959-CD03-4319-A1DA-5203780D8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07F0-CA7D-4BB0-BD55-4E5174D9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BEF7-FBE7-4A94-96F1-22CC4A9D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8E2-2545-4EA9-A3B8-AFCC9B79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C2FF-63A9-4302-B0AC-87A9E1D78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3BA6-12A2-4088-AEF3-E6758E787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1C61-DBE6-4FC8-A0CA-33B34ABE9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F5D7B-80D9-4BE8-A9C0-34C93494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5279F-1748-4D53-8995-5CB5FDA7C3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4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28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29.png"/><Relationship Id="rId9" Type="http://schemas.openxmlformats.org/officeDocument/2006/relationships/image" Target="../media/image30.png"/><Relationship Id="rId10" Type="http://schemas.openxmlformats.org/officeDocument/2006/relationships/image" Target="../media/image31.png"/><Relationship Id="rId1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png"/><Relationship Id="rId1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png"/><Relationship Id="rId1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7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8.wmf"/><Relationship Id="rId2" Type="http://schemas.openxmlformats.org/officeDocument/2006/relationships/image" Target="../media/image69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70.png"/><Relationship Id="rId5" Type="http://schemas.openxmlformats.org/officeDocument/2006/relationships/oleObject" Target="../embeddings/oleObject2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4.bin"/><Relationship Id="rId10" Type="http://schemas.openxmlformats.org/officeDocument/2006/relationships/image" Target="../media/image72.png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73.png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74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75.png"/><Relationship Id="rId1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st-Mean-Square Training of Cluster-Weighted-Mo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Taiwan Univers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Computer Science and Information Engine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ng-Yuan Liou and I-Chun 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diction calc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38480" cy="44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forecast: The expected output given the inp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error (output uncertainty): The expected output covariance given the inp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4788000" y="5084640"/>
            <a:ext cx="4038480" cy="10605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2"/>
          <a:stretch/>
        </p:blipFill>
        <p:spPr>
          <a:xfrm>
            <a:off x="5003640" y="1844640"/>
            <a:ext cx="2880000" cy="5907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"/>
          <p:cNvPicPr/>
          <p:nvPr/>
        </p:nvPicPr>
        <p:blipFill>
          <a:blip r:embed="rId3"/>
          <a:stretch/>
        </p:blipFill>
        <p:spPr>
          <a:xfrm>
            <a:off x="5003640" y="2421000"/>
            <a:ext cx="288000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412640"/>
            <a:ext cx="843588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 function: Log-likelihood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ize cluster means (k-means), variances (maximal range for each dimension). Initializ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1/M.  M: Predetermined number of clus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step: Evaluate the posterior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-ste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clusters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prior prob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3"/>
          <p:cNvGraphicFramePr/>
          <p:nvPr/>
        </p:nvGraphicFramePr>
        <p:xfrm>
          <a:off x="900000" y="3500280"/>
          <a:ext cx="2590920" cy="11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3500280"/>
                    <a:ext cx="2590920" cy="11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Picture 4" descr=""/>
          <p:cNvPicPr/>
          <p:nvPr/>
        </p:nvPicPr>
        <p:blipFill>
          <a:blip r:embed="rId3"/>
          <a:stretch/>
        </p:blipFill>
        <p:spPr>
          <a:xfrm>
            <a:off x="5148360" y="5972040"/>
            <a:ext cx="2647800" cy="8859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 (EM Algorith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Object 6"/>
          <p:cNvGraphicFramePr/>
          <p:nvPr/>
        </p:nvGraphicFramePr>
        <p:xfrm>
          <a:off x="971640" y="2781360"/>
          <a:ext cx="576000" cy="312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0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71640" y="2781360"/>
                    <a:ext cx="576000" cy="31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Object 7"/>
          <p:cNvGraphicFramePr/>
          <p:nvPr/>
        </p:nvGraphicFramePr>
        <p:xfrm>
          <a:off x="5148360" y="4437000"/>
          <a:ext cx="2647800" cy="1409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2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8360" y="4437000"/>
                    <a:ext cx="2647800" cy="14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8"/>
          <p:cNvGraphicFramePr/>
          <p:nvPr/>
        </p:nvGraphicFramePr>
        <p:xfrm>
          <a:off x="900000" y="1773360"/>
          <a:ext cx="1368360" cy="4316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4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900000" y="1773360"/>
                    <a:ext cx="136836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-step ( 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6840" y="1268280"/>
            <a:ext cx="81471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luster-weighted expec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cluster-weighted covariance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cluster parameters      which maximiz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ta likelih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output covariance matr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755640" y="5157720"/>
          <a:ext cx="1800360" cy="4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157720"/>
                    <a:ext cx="1800360" cy="4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9" name="Picture 5" descr=""/>
          <p:cNvPicPr/>
          <p:nvPr/>
        </p:nvPicPr>
        <p:blipFill>
          <a:blip r:embed="rId3"/>
          <a:stretch/>
        </p:blipFill>
        <p:spPr>
          <a:xfrm>
            <a:off x="900000" y="6021360"/>
            <a:ext cx="3529080" cy="649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"/>
          <p:cNvPicPr/>
          <p:nvPr/>
        </p:nvPicPr>
        <p:blipFill>
          <a:blip r:embed="rId4"/>
          <a:stretch/>
        </p:blipFill>
        <p:spPr>
          <a:xfrm>
            <a:off x="4572000" y="3909960"/>
            <a:ext cx="360360" cy="2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1" name="Object 7"/>
          <p:cNvGraphicFramePr/>
          <p:nvPr/>
        </p:nvGraphicFramePr>
        <p:xfrm>
          <a:off x="3419640" y="4292640"/>
          <a:ext cx="2190600" cy="63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19640" y="4292640"/>
                    <a:ext cx="219060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Object 8"/>
          <p:cNvGraphicFramePr/>
          <p:nvPr/>
        </p:nvGraphicFramePr>
        <p:xfrm>
          <a:off x="3924360" y="5013360"/>
          <a:ext cx="3181320" cy="719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24360" y="5013360"/>
                    <a:ext cx="318132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" name="Picture 9" descr=""/>
          <p:cNvPicPr/>
          <p:nvPr/>
        </p:nvPicPr>
        <p:blipFill>
          <a:blip r:embed="rId9"/>
          <a:stretch/>
        </p:blipFill>
        <p:spPr>
          <a:xfrm>
            <a:off x="900000" y="3500280"/>
            <a:ext cx="2376720" cy="3621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10"/>
          <a:stretch/>
        </p:blipFill>
        <p:spPr>
          <a:xfrm>
            <a:off x="971640" y="1700280"/>
            <a:ext cx="3600360" cy="13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ast-Mean-Square Training of CWM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ion: Many function approximators are trained by minimizing squared error cost function. ( Ex. Multi-layered perceptrons, RBF neural networks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izing squared error function of CWM’s training result to find another solution which can have a more precisely fitted fun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rain CWM’s model parameters from a least squared perspecti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find another solution when CWM is trapped in local mini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MS Learn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stantaneous error produced by sample n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rediction formula 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softmax function to constrain prior probability to have value between 0 and 1 and their summation equal to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4"/>
          <p:cNvGraphicFramePr/>
          <p:nvPr/>
        </p:nvGraphicFramePr>
        <p:xfrm>
          <a:off x="755640" y="2089080"/>
          <a:ext cx="2514600" cy="103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089080"/>
                    <a:ext cx="2514600" cy="10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Object 5"/>
          <p:cNvGraphicFramePr/>
          <p:nvPr/>
        </p:nvGraphicFramePr>
        <p:xfrm>
          <a:off x="1116000" y="5589720"/>
          <a:ext cx="182880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5589720"/>
                    <a:ext cx="182880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Object 6"/>
          <p:cNvGraphicFramePr/>
          <p:nvPr/>
        </p:nvGraphicFramePr>
        <p:xfrm>
          <a:off x="4572000" y="2847960"/>
          <a:ext cx="3887640" cy="1371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6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847960"/>
                    <a:ext cx="388764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MS Learning Algorithm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21844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alculation of gradients: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677880" y="2349360"/>
            <a:ext cx="533412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Object 5"/>
          <p:cNvGraphicFramePr/>
          <p:nvPr/>
        </p:nvGraphicFramePr>
        <p:xfrm>
          <a:off x="611280" y="3502080"/>
          <a:ext cx="2592360" cy="55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1280" y="3502080"/>
                    <a:ext cx="2592360" cy="55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Object 6"/>
          <p:cNvGraphicFramePr/>
          <p:nvPr/>
        </p:nvGraphicFramePr>
        <p:xfrm>
          <a:off x="468360" y="4581360"/>
          <a:ext cx="676080" cy="601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3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68360" y="4581360"/>
                    <a:ext cx="67608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7"/>
          <p:cNvGraphicFramePr/>
          <p:nvPr/>
        </p:nvGraphicFramePr>
        <p:xfrm>
          <a:off x="1116000" y="4581360"/>
          <a:ext cx="3817800" cy="601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5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4581360"/>
                    <a:ext cx="381780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8"/>
          <p:cNvGraphicFramePr/>
          <p:nvPr/>
        </p:nvGraphicFramePr>
        <p:xfrm>
          <a:off x="4932360" y="4581360"/>
          <a:ext cx="1749600" cy="60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7" name="Object 8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932360" y="4581360"/>
                    <a:ext cx="1749600" cy="6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9"/>
          <p:cNvGraphicFramePr/>
          <p:nvPr/>
        </p:nvGraphicFramePr>
        <p:xfrm>
          <a:off x="611280" y="5643720"/>
          <a:ext cx="3529080" cy="8809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9" name="Object 9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11280" y="5643720"/>
                    <a:ext cx="3529080" cy="88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0"/>
          <p:cNvGraphicFramePr/>
          <p:nvPr/>
        </p:nvGraphicFramePr>
        <p:xfrm>
          <a:off x="611280" y="4003560"/>
          <a:ext cx="4110120" cy="5032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1" name="Object 10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11280" y="4003560"/>
                    <a:ext cx="41101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11"/>
          <p:cNvGraphicFramePr/>
          <p:nvPr/>
        </p:nvGraphicFramePr>
        <p:xfrm>
          <a:off x="4716360" y="4003560"/>
          <a:ext cx="1690920" cy="50508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3" name="Object 11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4716360" y="4003560"/>
                    <a:ext cx="16909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MS CWM Learn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7786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lization: Initiali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ing CWM’s training result. Initial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erate until convergenc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=1: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err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culate gradi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ste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-ste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4"/>
          <p:cNvGraphicFramePr/>
          <p:nvPr/>
        </p:nvGraphicFramePr>
        <p:xfrm>
          <a:off x="4416480" y="1700280"/>
          <a:ext cx="1523880" cy="2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16480" y="1700280"/>
                    <a:ext cx="152388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Object 5"/>
          <p:cNvGraphicFramePr/>
          <p:nvPr/>
        </p:nvGraphicFramePr>
        <p:xfrm>
          <a:off x="3276720" y="1341360"/>
          <a:ext cx="2592360" cy="30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1341360"/>
                    <a:ext cx="2592360" cy="30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6"/>
          <p:cNvGraphicFramePr/>
          <p:nvPr/>
        </p:nvGraphicFramePr>
        <p:xfrm>
          <a:off x="755640" y="3357720"/>
          <a:ext cx="2611440" cy="1439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3357720"/>
                    <a:ext cx="2611440" cy="14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7"/>
          <p:cNvGraphicFramePr/>
          <p:nvPr/>
        </p:nvGraphicFramePr>
        <p:xfrm>
          <a:off x="755640" y="4722840"/>
          <a:ext cx="1440000" cy="577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5640" y="4722840"/>
                    <a:ext cx="144000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8"/>
          <p:cNvGraphicFramePr/>
          <p:nvPr/>
        </p:nvGraphicFramePr>
        <p:xfrm>
          <a:off x="2309760" y="2492280"/>
          <a:ext cx="1685880" cy="276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09760" y="2492280"/>
                    <a:ext cx="168588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9"/>
          <p:cNvGraphicFramePr/>
          <p:nvPr/>
        </p:nvGraphicFramePr>
        <p:xfrm>
          <a:off x="2771640" y="2781360"/>
          <a:ext cx="2133720" cy="3906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71640" y="2781360"/>
                    <a:ext cx="2133720" cy="3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10"/>
          <p:cNvGraphicFramePr/>
          <p:nvPr/>
        </p:nvGraphicFramePr>
        <p:xfrm>
          <a:off x="1476360" y="5589720"/>
          <a:ext cx="3168720" cy="647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9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1476360" y="5589720"/>
                    <a:ext cx="316872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11"/>
          <p:cNvGraphicFramePr/>
          <p:nvPr/>
        </p:nvGraphicFramePr>
        <p:xfrm>
          <a:off x="1476360" y="6408720"/>
          <a:ext cx="3400560" cy="33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1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476360" y="6408720"/>
                    <a:ext cx="340056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im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wm1d.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wmprdemo.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wm2d.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ms1d.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me series predi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n spots time series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thly smoothed sunspot numbers from 1750~April/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ining set: First 2076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set: Last 1000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4" descr="sunspotsMonth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-step predi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: [s(t-1),s(t-2),s(t-4),s(t-8)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tput: s(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clusters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l linear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9152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W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457200" y="260280"/>
          <a:ext cx="8229600" cy="654372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25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ho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jor contribu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.L. Bunti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ACS NASA Ame research cen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eration for learning with Graphical mode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phical models provide a framework for understanding and developing complex learning algorith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I. Jordan&amp; R.A. Jacob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erarchical mixtures of experts and EM algorith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tree-structure architecture (HME) for supervised learning using EM algorithm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S. Weigend&amp; M. Mangeas&amp; A.N. Srivasta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versity of Colo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linear Gated Exper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d experts consisted of nonlinear gating networks and several local expert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9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. Gershenfe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luster-weighted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Mixture density estimator around local model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l V. Prokhorov, Lee A. Feldkamp and Timothy M. Feldkam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d Research Laborato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 improved Cluster-Weighted Mode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ign a reinitialization technique to avoid local minima, but it could be time consuming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Ghosh and R. Ramaswam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ta institute of fundamental research Indi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itute for advanced study, Princet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ion of the Lyapunov spectrum in driven system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ing CWM as a tool to estimate Lyapunov spectrum in driven system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843280" y="5373720"/>
          <a:ext cx="3133800" cy="1401840"/>
        </p:xfrm>
        <a:graphic>
          <a:graphicData uri="http://schemas.openxmlformats.org/drawingml/2006/table">
            <a:tbl>
              <a:tblPr/>
              <a:tblGrid>
                <a:gridCol w="1042920"/>
                <a:gridCol w="1046160"/>
                <a:gridCol w="10447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65e-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60e-00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"/>
          <p:cNvSpPr txBox="1"/>
          <p:nvPr/>
        </p:nvSpPr>
        <p:spPr>
          <a:xfrm>
            <a:off x="755280" y="1196640"/>
            <a:ext cx="793116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 of test data     Prediction of next 100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4" descr="sunspot_100prediction"/>
          <p:cNvPicPr/>
          <p:nvPr/>
        </p:nvPicPr>
        <p:blipFill>
          <a:blip r:embed="rId1"/>
          <a:stretch/>
        </p:blipFill>
        <p:spPr>
          <a:xfrm>
            <a:off x="4572000" y="1712880"/>
            <a:ext cx="4392720" cy="34448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9" descr="sunspot_prediction"/>
          <p:cNvPicPr/>
          <p:nvPr/>
        </p:nvPicPr>
        <p:blipFill>
          <a:blip r:embed="rId2"/>
          <a:stretch/>
        </p:blipFill>
        <p:spPr>
          <a:xfrm>
            <a:off x="179280" y="1662120"/>
            <a:ext cx="4465800" cy="335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r-infrared NH3 Laser generated da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00 points, measured in a physics laboratory exper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-step predi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[s(t-2),s(t-4),s(t-6),s(t-8),s(t-10),s(t-12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: s(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linear model, 18 clu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 set: First 15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set: Last 15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laser"/>
          <p:cNvPicPr/>
          <p:nvPr/>
        </p:nvPicPr>
        <p:blipFill>
          <a:blip r:embed="rId1"/>
          <a:stretch/>
        </p:blipFill>
        <p:spPr>
          <a:xfrm>
            <a:off x="4140360" y="4076640"/>
            <a:ext cx="39956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116000" y="2276640"/>
          <a:ext cx="7210440" cy="3375000"/>
        </p:xfrm>
        <a:graphic>
          <a:graphicData uri="http://schemas.openxmlformats.org/drawingml/2006/table">
            <a:tbl>
              <a:tblPr/>
              <a:tblGrid>
                <a:gridCol w="2403360"/>
                <a:gridCol w="2403720"/>
                <a:gridCol w="2403360"/>
              </a:tblGrid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set (M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MSE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9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-likelih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8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laserpr"/>
          <p:cNvPicPr/>
          <p:nvPr/>
        </p:nvPicPr>
        <p:blipFill>
          <a:blip r:embed="rId1"/>
          <a:stretch/>
        </p:blipFill>
        <p:spPr>
          <a:xfrm>
            <a:off x="684360" y="1341360"/>
            <a:ext cx="7461000" cy="48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ckey-Glass Chaotic Time Series Pred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0 data points. We take first 500 points as training set, last 500 points are used for t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-step pred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: [s(t),s(t-6),s(t-12),s(t-18)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: s(t+8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linear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clusters: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arning cur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WM                               LMS CW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mg_cwmcurve"/>
          <p:cNvPicPr/>
          <p:nvPr/>
        </p:nvPicPr>
        <p:blipFill>
          <a:blip r:embed="rId1"/>
          <a:stretch/>
        </p:blipFill>
        <p:spPr>
          <a:xfrm>
            <a:off x="250920" y="2852640"/>
            <a:ext cx="3889440" cy="33847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MG_lSCWMlearncurve"/>
          <p:cNvPicPr/>
          <p:nvPr/>
        </p:nvPicPr>
        <p:blipFill>
          <a:blip r:embed="rId2"/>
          <a:stretch/>
        </p:blipFill>
        <p:spPr>
          <a:xfrm>
            <a:off x="4788000" y="2852640"/>
            <a:ext cx="396072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1763640" y="2708280"/>
          <a:ext cx="5688000" cy="2658960"/>
        </p:xfrm>
        <a:graphic>
          <a:graphicData uri="http://schemas.openxmlformats.org/drawingml/2006/table">
            <a:tbl>
              <a:tblPr/>
              <a:tblGrid>
                <a:gridCol w="1738440"/>
                <a:gridCol w="1736640"/>
                <a:gridCol w="2212920"/>
              </a:tblGrid>
              <a:tr h="85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s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490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ining s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05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mg_lscwmpredict"/>
          <p:cNvPicPr/>
          <p:nvPr/>
        </p:nvPicPr>
        <p:blipFill>
          <a:blip r:embed="rId1"/>
          <a:stretch/>
        </p:blipFill>
        <p:spPr>
          <a:xfrm>
            <a:off x="4648320" y="2347920"/>
            <a:ext cx="4038480" cy="30290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mg_cwmpredict"/>
          <p:cNvPicPr/>
          <p:nvPr/>
        </p:nvPicPr>
        <p:blipFill>
          <a:blip r:embed="rId2"/>
          <a:stretch/>
        </p:blipFill>
        <p:spPr>
          <a:xfrm>
            <a:off x="457200" y="23479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: Rossler Chaotic Syste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 the time series in 3 dimensional lagged spa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put vector           , output v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CWM and LMS CWM to find the underlying system dynami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rossler"/>
          <p:cNvPicPr/>
          <p:nvPr/>
        </p:nvPicPr>
        <p:blipFill>
          <a:blip r:embed="rId1"/>
          <a:stretch/>
        </p:blipFill>
        <p:spPr>
          <a:xfrm>
            <a:off x="5219640" y="1773360"/>
            <a:ext cx="3797280" cy="3132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Object 5"/>
          <p:cNvGraphicFramePr/>
          <p:nvPr/>
        </p:nvGraphicFramePr>
        <p:xfrm>
          <a:off x="2055960" y="2852640"/>
          <a:ext cx="3236760" cy="36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5960" y="2852640"/>
                    <a:ext cx="323676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Object 6"/>
          <p:cNvGraphicFramePr/>
          <p:nvPr/>
        </p:nvGraphicFramePr>
        <p:xfrm>
          <a:off x="2889360" y="3357720"/>
          <a:ext cx="961920" cy="27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9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889360" y="3357720"/>
                    <a:ext cx="961920" cy="27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Object 7"/>
          <p:cNvGraphicFramePr/>
          <p:nvPr/>
        </p:nvGraphicFramePr>
        <p:xfrm>
          <a:off x="3059280" y="3728880"/>
          <a:ext cx="1371600" cy="2764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1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59280" y="3728880"/>
                    <a:ext cx="1371600" cy="2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WM                             LMS CW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4" descr="rossler_cwmlearn"/>
          <p:cNvPicPr/>
          <p:nvPr/>
        </p:nvPicPr>
        <p:blipFill>
          <a:blip r:embed="rId1"/>
          <a:stretch/>
        </p:blipFill>
        <p:spPr>
          <a:xfrm>
            <a:off x="468360" y="2422440"/>
            <a:ext cx="4176720" cy="43196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rossler_LMScwmlearn"/>
          <p:cNvPicPr/>
          <p:nvPr/>
        </p:nvPicPr>
        <p:blipFill>
          <a:blip r:embed="rId2"/>
          <a:stretch/>
        </p:blipFill>
        <p:spPr>
          <a:xfrm>
            <a:off x="4788000" y="2422440"/>
            <a:ext cx="42480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ussian Mixture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075520" cy="44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ata instances 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re are M Gaussian componen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robability density function of a data instance is approximated 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ization and positivity requ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 interpret the mixing coefficients as prior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4"/>
          <p:cNvGraphicFramePr/>
          <p:nvPr/>
        </p:nvGraphicFramePr>
        <p:xfrm>
          <a:off x="3564000" y="1871640"/>
          <a:ext cx="1673280" cy="3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64000" y="1871640"/>
                    <a:ext cx="167328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5"/>
          <p:cNvGraphicFramePr/>
          <p:nvPr/>
        </p:nvGraphicFramePr>
        <p:xfrm>
          <a:off x="971640" y="2637000"/>
          <a:ext cx="1876320" cy="25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637000"/>
                    <a:ext cx="18763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6"/>
          <p:cNvGraphicFramePr/>
          <p:nvPr/>
        </p:nvGraphicFramePr>
        <p:xfrm>
          <a:off x="971640" y="4940280"/>
          <a:ext cx="2724120" cy="50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4940280"/>
                    <a:ext cx="272412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7"/>
          <p:cNvGraphicFramePr/>
          <p:nvPr/>
        </p:nvGraphicFramePr>
        <p:xfrm>
          <a:off x="1332000" y="3500280"/>
          <a:ext cx="3024000" cy="573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4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332000" y="3500280"/>
                    <a:ext cx="3024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Picture 8" descr="gmm"/>
          <p:cNvPicPr/>
          <p:nvPr/>
        </p:nvPicPr>
        <p:blipFill>
          <a:blip r:embed="rId9"/>
          <a:stretch/>
        </p:blipFill>
        <p:spPr>
          <a:xfrm>
            <a:off x="5219640" y="3284640"/>
            <a:ext cx="30243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1187280" y="1600200"/>
          <a:ext cx="6840720" cy="3557520"/>
        </p:xfrm>
        <a:graphic>
          <a:graphicData uri="http://schemas.openxmlformats.org/drawingml/2006/table">
            <a:tbl>
              <a:tblPr/>
              <a:tblGrid>
                <a:gridCol w="2279880"/>
                <a:gridCol w="2281320"/>
                <a:gridCol w="2279520"/>
              </a:tblGrid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-likelihoo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529e-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160e+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MS CW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020e-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2579e+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yapunov exponents (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quantify the exponential rate at which nearby trajectories separate from each other while moving on the attrac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e Lyapunov exponents are responsible for the sensitivity of a chaotic process to initial condi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WM can estimate reliable LE in the work published by Ghos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t 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lE"/>
          <p:cNvPicPr/>
          <p:nvPr/>
        </p:nvPicPr>
        <p:blipFill>
          <a:blip r:embed="rId1"/>
          <a:stretch/>
        </p:blipFill>
        <p:spPr>
          <a:xfrm>
            <a:off x="1042920" y="4076640"/>
            <a:ext cx="3382920" cy="1838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1" name="Object 5"/>
          <p:cNvGraphicFramePr/>
          <p:nvPr/>
        </p:nvGraphicFramePr>
        <p:xfrm>
          <a:off x="5076720" y="4581360"/>
          <a:ext cx="2087640" cy="7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2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76720" y="4581360"/>
                    <a:ext cx="208764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timation metho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The discrete-time dynamical system.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ynamic    is obtained by CWM. Then the Jacobian matrix of time step       is decomposed i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nitialization of          . (QR decompos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ely compute the        matrix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n the finite-time Lyapunov exponents are estimated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187164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"/>
          <p:cNvPicPr/>
          <p:nvPr/>
        </p:nvPicPr>
        <p:blipFill>
          <a:blip r:embed="rId2"/>
          <a:stretch/>
        </p:blipFill>
        <p:spPr>
          <a:xfrm>
            <a:off x="1547640" y="3500280"/>
            <a:ext cx="3529080" cy="505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Object 7"/>
          <p:cNvGraphicFramePr/>
          <p:nvPr/>
        </p:nvGraphicFramePr>
        <p:xfrm>
          <a:off x="6372360" y="4581360"/>
          <a:ext cx="1114200" cy="3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8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2360" y="4581360"/>
                    <a:ext cx="11142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8"/>
          <p:cNvGraphicFramePr/>
          <p:nvPr/>
        </p:nvGraphicFramePr>
        <p:xfrm>
          <a:off x="971640" y="2225520"/>
          <a:ext cx="1114200" cy="266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20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2225520"/>
                    <a:ext cx="1114200" cy="26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Object 9"/>
          <p:cNvGraphicFramePr/>
          <p:nvPr/>
        </p:nvGraphicFramePr>
        <p:xfrm>
          <a:off x="4091040" y="4646520"/>
          <a:ext cx="552240" cy="29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2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91040" y="4646520"/>
                    <a:ext cx="55224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10"/>
          <p:cNvGraphicFramePr/>
          <p:nvPr/>
        </p:nvGraphicFramePr>
        <p:xfrm>
          <a:off x="3941640" y="4141800"/>
          <a:ext cx="990720" cy="29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4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941640" y="4141800"/>
                    <a:ext cx="990720" cy="29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5" name="Object 11"/>
          <p:cNvGraphicFramePr/>
          <p:nvPr/>
        </p:nvGraphicFramePr>
        <p:xfrm>
          <a:off x="2987640" y="2779560"/>
          <a:ext cx="255600" cy="2890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26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987640" y="2779560"/>
                    <a:ext cx="25560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Object 12"/>
          <p:cNvGraphicFramePr/>
          <p:nvPr/>
        </p:nvGraphicFramePr>
        <p:xfrm>
          <a:off x="5364000" y="3213000"/>
          <a:ext cx="600120" cy="238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8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364000" y="3213000"/>
                    <a:ext cx="600120" cy="2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Object 14"/>
          <p:cNvGraphicFramePr/>
          <p:nvPr/>
        </p:nvGraphicFramePr>
        <p:xfrm>
          <a:off x="3203640" y="5589720"/>
          <a:ext cx="2886120" cy="676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30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203640" y="5589720"/>
                    <a:ext cx="28861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yapunov Exponents Estimation of EEG Time Series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sets of single channel EEG time series data, each set containing 100 segments of 23.6-sec duration. Each time segment contains 4097 data poin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: Subject were relaxed in an awake state with eyes op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B: Data were recorded from within the epileptogenic zone, contained only activity measured during seizure free interv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: Contained seizure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EG time series              State-space 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4" descr="EEG"/>
          <p:cNvPicPr/>
          <p:nvPr/>
        </p:nvPicPr>
        <p:blipFill>
          <a:blip r:embed="rId1"/>
          <a:stretch/>
        </p:blipFill>
        <p:spPr>
          <a:xfrm>
            <a:off x="250920" y="2565360"/>
            <a:ext cx="4859280" cy="33847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EEG_statespace"/>
          <p:cNvPicPr/>
          <p:nvPr/>
        </p:nvPicPr>
        <p:blipFill>
          <a:blip r:embed="rId2"/>
          <a:stretch/>
        </p:blipFill>
        <p:spPr>
          <a:xfrm>
            <a:off x="4716360" y="2708280"/>
            <a:ext cx="4427640" cy="32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rgest Lyapunov exponent (LE) of each time segm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" descr="EEGLE"/>
          <p:cNvPicPr/>
          <p:nvPr/>
        </p:nvPicPr>
        <p:blipFill>
          <a:blip r:embed="rId1"/>
          <a:stretch/>
        </p:blipFill>
        <p:spPr>
          <a:xfrm>
            <a:off x="0" y="3456000"/>
            <a:ext cx="5651640" cy="357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0" name=""/>
          <p:cNvGraphicFramePr/>
          <p:nvPr/>
        </p:nvGraphicFramePr>
        <p:xfrm>
          <a:off x="5651640" y="3790800"/>
          <a:ext cx="3384360" cy="1943280"/>
        </p:xfrm>
        <a:graphic>
          <a:graphicData uri="http://schemas.openxmlformats.org/drawingml/2006/table">
            <a:tbl>
              <a:tblPr/>
              <a:tblGrid>
                <a:gridCol w="809640"/>
                <a:gridCol w="850680"/>
                <a:gridCol w="824040"/>
                <a:gridCol w="900000"/>
              </a:tblGrid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st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MS learning method for CWM is 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diction accuracy can be improv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ose the benefits of data density estimation and characterizing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log-likelihood value is increased, everything is improved by L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n alternative training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meters can be trained by EM and LMS alternative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bine both advantages of EM and L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pplication of Lyapunov exponents estimation is presen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ular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tical anal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between different models (from theoretical, performance point of view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ng new insigh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 for your patienc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ctation Maximization (EM) Algo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we are only able to observe some data (observable data instances), there is still some information we cannot observe (latent data, which component generated each data instan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algorithm is able to find the model parameters ( cluster means, variances, mixing coefficients)  that the likelihood function is maximiz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M might be trapped in local mini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 for Gaussian Mixture Cluste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objective function is the total log-likelihood fun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a given value of instance    we can use the current model parameters to evaluate the corresponding posterior probabilities         , the responsibility that data instance    is generated by Cluster 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2843280" y="3933720"/>
          <a:ext cx="863640" cy="3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3933720"/>
                    <a:ext cx="86364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5"/>
          <p:cNvGraphicFramePr/>
          <p:nvPr/>
        </p:nvGraphicFramePr>
        <p:xfrm>
          <a:off x="3851280" y="2060640"/>
          <a:ext cx="4641840" cy="47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1280" y="2060640"/>
                    <a:ext cx="4641840" cy="4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6"/>
          <p:cNvGraphicFramePr/>
          <p:nvPr/>
        </p:nvGraphicFramePr>
        <p:xfrm>
          <a:off x="5508720" y="2708280"/>
          <a:ext cx="245880" cy="28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08720" y="2708280"/>
                    <a:ext cx="245880" cy="2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Picture 7" descr=""/>
          <p:cNvPicPr/>
          <p:nvPr/>
        </p:nvPicPr>
        <p:blipFill>
          <a:blip r:embed="rId7"/>
          <a:stretch/>
        </p:blipFill>
        <p:spPr>
          <a:xfrm>
            <a:off x="3059280" y="4365720"/>
            <a:ext cx="269640" cy="2872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2484000" y="486900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-M Learning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M is based on two ste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step (Expectation): Expectation with respect to the possible distribution of the latent data based on the current estimates of the desired parameters conditioned on the given observ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-step (Maximization): Generating a new set of estimates of the desired model parameters by maximizing the objective function (log-likelihood function)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bjective function increased after iteration, eventually conver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rning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ck some initial model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erate until converg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Object 4"/>
          <p:cNvGraphicFramePr/>
          <p:nvPr/>
        </p:nvGraphicFramePr>
        <p:xfrm>
          <a:off x="826920" y="2879640"/>
          <a:ext cx="2800440" cy="15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879640"/>
                    <a:ext cx="2800440" cy="15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5"/>
          <p:cNvGraphicFramePr/>
          <p:nvPr/>
        </p:nvGraphicFramePr>
        <p:xfrm>
          <a:off x="826920" y="4437000"/>
          <a:ext cx="3319560" cy="1981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26920" y="4437000"/>
                    <a:ext cx="33195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uster-Weighted Modeling (CW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WM is a supervised learning which are based on the joint probability density estimation of a set of input and output (target)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oint probability is expended into clusters which describe local subspaces well. Each local Gaussian expert can have its own local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stant, linear or quadratic func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lobal (nonlinear) model can be constructed by combining all the local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sulting model has transparent local structures and meaningful parame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" name="Object 4"/>
          <p:cNvGraphicFramePr/>
          <p:nvPr/>
        </p:nvGraphicFramePr>
        <p:xfrm>
          <a:off x="6022800" y="3370320"/>
          <a:ext cx="781200" cy="34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22800" y="3370320"/>
                    <a:ext cx="781200" cy="34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cWMArchi"/>
          <p:cNvPicPr/>
          <p:nvPr/>
        </p:nvPicPr>
        <p:blipFill>
          <a:blip r:embed="rId1"/>
          <a:stretch/>
        </p:blipFill>
        <p:spPr>
          <a:xfrm>
            <a:off x="395280" y="1413000"/>
            <a:ext cx="5616720" cy="301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Object 5"/>
          <p:cNvGraphicFramePr/>
          <p:nvPr/>
        </p:nvGraphicFramePr>
        <p:xfrm>
          <a:off x="3851280" y="4292640"/>
          <a:ext cx="4067280" cy="647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51280" y="4292640"/>
                    <a:ext cx="40672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Object 6"/>
          <p:cNvGraphicFramePr/>
          <p:nvPr/>
        </p:nvGraphicFramePr>
        <p:xfrm>
          <a:off x="3851280" y="5229360"/>
          <a:ext cx="4067280" cy="590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51280" y="5229360"/>
                    <a:ext cx="4067280" cy="59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7" name="Picture 8" descr=""/>
          <p:cNvPicPr/>
          <p:nvPr/>
        </p:nvPicPr>
        <p:blipFill>
          <a:blip r:embed="rId6"/>
          <a:stretch/>
        </p:blipFill>
        <p:spPr>
          <a:xfrm>
            <a:off x="5724360" y="1843200"/>
            <a:ext cx="3024360" cy="649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7"/>
          <a:stretch/>
        </p:blipFill>
        <p:spPr>
          <a:xfrm>
            <a:off x="5869080" y="2492280"/>
            <a:ext cx="30240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09:27:33Z</dcterms:created>
  <dc:creator>Johnny</dc:creator>
  <dc:description/>
  <dc:language>en-US</dc:language>
  <cp:lastModifiedBy>Yellow</cp:lastModifiedBy>
  <dcterms:modified xsi:type="dcterms:W3CDTF">2017-04-13T06:18:52Z</dcterms:modified>
  <cp:revision>66</cp:revision>
  <dc:subject/>
  <dc:title>Expectation Maximization (EM) Algorithm</dc:title>
</cp:coreProperties>
</file>