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3.wmf" ContentType="image/x-wmf"/>
  <Override PartName="/ppt/media/image26.wmf" ContentType="image/x-wmf"/>
  <Override PartName="/ppt/media/image2.png" ContentType="image/png"/>
  <Override PartName="/ppt/media/image27.wmf" ContentType="image/x-wmf"/>
  <Override PartName="/ppt/media/image16.png" ContentType="image/png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png" ContentType="image/pn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B669-FC2F-4D8C-B52C-8455B12C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685A-FB1B-406D-8375-AAE14CDC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4963-24F7-4C0E-8336-7BEC76029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396B-4A9B-4639-ACDD-2455CEF4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AE26-08E6-4CCA-8A9F-EA37F2AC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A22F-4BE8-4929-9C2F-786F02690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1322-ED4B-4E18-98BD-52082C68D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F49C-C171-4A6A-B6FF-ED2A854DA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9A72-4718-4148-93DE-7DC275E6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3381E-62F5-4379-955C-C66D04414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95C3-A573-4EAE-8BAA-7426F539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B3EAE-AC61-469E-B606-370F5D60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9E636-E694-44B5-AD77-89A73C26FA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aoml.noaa.gov/hrd/hurdat/DataByYearandStorm.htm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bolsasymercados.es/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-World Data Experi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ng-Yuan Li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2484360" y="6095880"/>
          <a:ext cx="4248360" cy="762120"/>
        </p:xfrm>
        <a:graphic>
          <a:graphicData uri="http://schemas.openxmlformats.org/drawingml/2006/table">
            <a:tbl>
              <a:tblPr/>
              <a:tblGrid>
                <a:gridCol w="1525680"/>
                <a:gridCol w="1362240"/>
                <a:gridCol w="1360440"/>
              </a:tblGrid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MS CW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853e-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691e-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Picture 18" descr="epsiloncomp"/>
          <p:cNvPicPr/>
          <p:nvPr/>
        </p:nvPicPr>
        <p:blipFill>
          <a:blip r:embed="rId1"/>
          <a:stretch/>
        </p:blipFill>
        <p:spPr>
          <a:xfrm>
            <a:off x="1908000" y="1052640"/>
            <a:ext cx="53341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e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zeta"/>
          <p:cNvPicPr/>
          <p:nvPr/>
        </p:nvPicPr>
        <p:blipFill>
          <a:blip r:embed="rId1"/>
          <a:stretch/>
        </p:blipFill>
        <p:spPr>
          <a:xfrm>
            <a:off x="1403280" y="1773360"/>
            <a:ext cx="60962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2484360" y="6093000"/>
          <a:ext cx="3959280" cy="609480"/>
        </p:xfrm>
        <a:graphic>
          <a:graphicData uri="http://schemas.openxmlformats.org/drawingml/2006/table">
            <a:tbl>
              <a:tblPr/>
              <a:tblGrid>
                <a:gridCol w="1420920"/>
                <a:gridCol w="1270080"/>
                <a:gridCol w="12682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MS CW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8373e-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823e-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Picture 19" descr="zetacomp"/>
          <p:cNvPicPr/>
          <p:nvPr/>
        </p:nvPicPr>
        <p:blipFill>
          <a:blip r:embed="rId1"/>
          <a:stretch/>
        </p:blipFill>
        <p:spPr>
          <a:xfrm>
            <a:off x="1905120" y="907920"/>
            <a:ext cx="533376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SE (Test Se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692360" y="2421000"/>
          <a:ext cx="6275160" cy="2044800"/>
        </p:xfrm>
        <a:graphic>
          <a:graphicData uri="http://schemas.openxmlformats.org/drawingml/2006/table">
            <a:tbl>
              <a:tblPr/>
              <a:tblGrid>
                <a:gridCol w="2252520"/>
                <a:gridCol w="2013120"/>
                <a:gridCol w="2009520"/>
              </a:tblGrid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MS CW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 Test hurrica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1868e-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663e-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r-infrared NH3 Laser generated dat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0 points, measured in a physics laboratory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step predi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: [s(t-2),s(t-4),s(t-6),s(t-8),s(t-10),s(t-12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: s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linear model, 18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set: First 15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set: Last 15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ing rates: 0.01 for cluster centers, pcm, be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001 for vari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116000" y="2276640"/>
          <a:ext cx="7210440" cy="3375000"/>
        </p:xfrm>
        <a:graphic>
          <a:graphicData uri="http://schemas.openxmlformats.org/drawingml/2006/table">
            <a:tbl>
              <a:tblPr/>
              <a:tblGrid>
                <a:gridCol w="2403360"/>
                <a:gridCol w="2403720"/>
                <a:gridCol w="2403360"/>
              </a:tblGrid>
              <a:tr h="69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MS CW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ning set (MS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s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S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-likelih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laserpr"/>
          <p:cNvPicPr/>
          <p:nvPr/>
        </p:nvPicPr>
        <p:blipFill>
          <a:blip r:embed="rId1"/>
          <a:stretch/>
        </p:blipFill>
        <p:spPr>
          <a:xfrm>
            <a:off x="684360" y="1341360"/>
            <a:ext cx="746100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 load time-se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: http://www.nyiso.com/public/market_data/load_data.js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hourly power load of New York State :1/Jan/06~5/July/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                                                   Detrend 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(t)=s(t)-s(t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bedding delay=4, Embedding dimension=10, 4-step ahead prediction. train:1~3423 validate:3424~3923 test:3924~4423,M=11 local linear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arning rates: 0.01 for cluster centers, pcm, b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001 for vari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power"/>
          <p:cNvPicPr/>
          <p:nvPr/>
        </p:nvPicPr>
        <p:blipFill>
          <a:blip r:embed="rId1"/>
          <a:stretch/>
        </p:blipFill>
        <p:spPr>
          <a:xfrm>
            <a:off x="324000" y="907920"/>
            <a:ext cx="4174920" cy="3132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powersd"/>
          <p:cNvPicPr/>
          <p:nvPr/>
        </p:nvPicPr>
        <p:blipFill>
          <a:blip r:embed="rId2"/>
          <a:stretch/>
        </p:blipFill>
        <p:spPr>
          <a:xfrm>
            <a:off x="4572000" y="981000"/>
            <a:ext cx="410364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WM                                         LMS CW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pw_cwmpr"/>
          <p:cNvPicPr/>
          <p:nvPr/>
        </p:nvPicPr>
        <p:blipFill>
          <a:blip r:embed="rId1"/>
          <a:stretch/>
        </p:blipFill>
        <p:spPr>
          <a:xfrm>
            <a:off x="539640" y="2205000"/>
            <a:ext cx="4106880" cy="3079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pw_lmspr"/>
          <p:cNvPicPr/>
          <p:nvPr/>
        </p:nvPicPr>
        <p:blipFill>
          <a:blip r:embed="rId2"/>
          <a:stretch/>
        </p:blipFill>
        <p:spPr>
          <a:xfrm>
            <a:off x="4859280" y="2205000"/>
            <a:ext cx="4067280" cy="3051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3276720" y="5516640"/>
          <a:ext cx="3105000" cy="1227240"/>
        </p:xfrm>
        <a:graphic>
          <a:graphicData uri="http://schemas.openxmlformats.org/drawingml/2006/table">
            <a:tbl>
              <a:tblPr/>
              <a:tblGrid>
                <a:gridCol w="1035000"/>
                <a:gridCol w="1035000"/>
                <a:gridCol w="10350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MS CW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rricane Track Pred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lantic Caribbean Gulf of Mexico 2002~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aoml.noaa.gov/hrd/hurdat/DataByYearandStorm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series pred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n spots time series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hly smoothed sunspot numbers from 1750~April/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set: First 2076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set: Last 1000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sunspotsMonth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-step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: [s(t-1),s(t-2),s(t-4),s(t-8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: s(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clusters: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linea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arning rates: 0.0001 for cluster centers, variance, beta. 0.01 for pc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843280" y="5373720"/>
          <a:ext cx="3133800" cy="1401840"/>
        </p:xfrm>
        <a:graphic>
          <a:graphicData uri="http://schemas.openxmlformats.org/drawingml/2006/table">
            <a:tbl>
              <a:tblPr/>
              <a:tblGrid>
                <a:gridCol w="1042920"/>
                <a:gridCol w="1046160"/>
                <a:gridCol w="10447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MS CW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65e-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60e-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 txBox="1"/>
          <p:nvPr/>
        </p:nvSpPr>
        <p:spPr>
          <a:xfrm>
            <a:off x="755280" y="1196640"/>
            <a:ext cx="793116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ion of test data     Prediction of next 100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8" descr="sunspot_100prediction"/>
          <p:cNvPicPr/>
          <p:nvPr/>
        </p:nvPicPr>
        <p:blipFill>
          <a:blip r:embed="rId1"/>
          <a:stretch/>
        </p:blipFill>
        <p:spPr>
          <a:xfrm>
            <a:off x="4572000" y="1712880"/>
            <a:ext cx="4392720" cy="3444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9" descr="sunspot_prediction"/>
          <p:cNvPicPr/>
          <p:nvPr/>
        </p:nvPicPr>
        <p:blipFill>
          <a:blip r:embed="rId2"/>
          <a:stretch/>
        </p:blipFill>
        <p:spPr>
          <a:xfrm>
            <a:off x="179280" y="1662120"/>
            <a:ext cx="446580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BEX 35 Stock Exchange Index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5/May/97~11/July/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7956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bolsasymercados.es/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Spanish Stock Exchange Index (IBEX 3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:1~1380 Validate:1381~1840,Test:1840~23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Validation set to decide M=2, then combine training and validation set as new training se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arning rates: 0.01 for cluster centers, pcm, be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.001 for vari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916360" y="5229360"/>
          <a:ext cx="5553000" cy="1396800"/>
        </p:xfrm>
        <a:graphic>
          <a:graphicData uri="http://schemas.openxmlformats.org/drawingml/2006/table">
            <a:tbl>
              <a:tblPr/>
              <a:tblGrid>
                <a:gridCol w="1849320"/>
                <a:gridCol w="1854360"/>
                <a:gridCol w="1849320"/>
              </a:tblGrid>
              <a:tr h="62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MS CW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ion of LMS CW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BMElmspr"/>
          <p:cNvPicPr/>
          <p:nvPr/>
        </p:nvPicPr>
        <p:blipFill>
          <a:blip r:embed="rId1"/>
          <a:stretch/>
        </p:blipFill>
        <p:spPr>
          <a:xfrm>
            <a:off x="1619280" y="2349360"/>
            <a:ext cx="5334120" cy="401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&amp;P500 (4/Jan/93~29/Dec/9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in:1~1150, validate:1151~1530, test:1531~191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=2 local linear model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Learning rates: 0.01 for cluster centers, pcm, bet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0.001 for varian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908000" y="3716280"/>
          <a:ext cx="3899160" cy="1573200"/>
        </p:xfrm>
        <a:graphic>
          <a:graphicData uri="http://schemas.openxmlformats.org/drawingml/2006/table">
            <a:tbl>
              <a:tblPr/>
              <a:tblGrid>
                <a:gridCol w="1300320"/>
                <a:gridCol w="1298520"/>
                <a:gridCol w="13003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MS CW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r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the other experiments in my thesis, the learning rates are as follow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rning rates: 0.01 for cluster centers, pcm, b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001 for vari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Min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-clump data. CWM is initialized with a local minima con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CWMfourclump_minima"/>
          <p:cNvPicPr/>
          <p:nvPr/>
        </p:nvPicPr>
        <p:blipFill>
          <a:blip r:embed="rId1"/>
          <a:stretch/>
        </p:blipFill>
        <p:spPr>
          <a:xfrm>
            <a:off x="1908000" y="2765520"/>
            <a:ext cx="5040360" cy="35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MS CWM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rates: 0.06 for cluster cen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1 for cluster variance, pcm, b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back LMS CWM’s training result to CWM. The learning cur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-- dashed line) CWM reinitialized with LMS CWM’s train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olid line) CWM being trapped in local mini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MSE learning curves                               log-likelihood learning cur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4clumpslocal_rmse"/>
          <p:cNvPicPr/>
          <p:nvPr/>
        </p:nvPicPr>
        <p:blipFill>
          <a:blip r:embed="rId1"/>
          <a:stretch/>
        </p:blipFill>
        <p:spPr>
          <a:xfrm>
            <a:off x="395280" y="3787920"/>
            <a:ext cx="3924360" cy="3241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4clumpslocal_like"/>
          <p:cNvPicPr/>
          <p:nvPr/>
        </p:nvPicPr>
        <p:blipFill>
          <a:blip r:embed="rId2"/>
          <a:stretch/>
        </p:blipFill>
        <p:spPr>
          <a:xfrm>
            <a:off x="4572000" y="3724200"/>
            <a:ext cx="439272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WM is reinitialized with LMS CWM’s training result. It can escape from the local min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ive function of CWM is log-likelihood function, so the RMSE learning curve may not decrease very smoothly. Log-likelihood is smoothly increased during lear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rates need to be chosen carefully to escape from the local min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005 Hurrica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huri05"/>
          <p:cNvPicPr/>
          <p:nvPr/>
        </p:nvPicPr>
        <p:blipFill>
          <a:blip r:embed="rId1"/>
          <a:stretch/>
        </p:blipFill>
        <p:spPr>
          <a:xfrm>
            <a:off x="684360" y="620640"/>
            <a:ext cx="7993080" cy="60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cal Min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9 Gaussian clump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uccessful cas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MS CWM learning rates: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0.001 for cluster centers. 0.01 for pcm, beta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0.001 for varianc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9clumps_success2"/>
          <p:cNvPicPr/>
          <p:nvPr/>
        </p:nvPicPr>
        <p:blipFill>
          <a:blip r:embed="rId1"/>
          <a:stretch/>
        </p:blipFill>
        <p:spPr>
          <a:xfrm>
            <a:off x="3844800" y="3573360"/>
            <a:ext cx="49752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cur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MSE                         Log-likelih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9clumpsLearningcurves"/>
          <p:cNvPicPr/>
          <p:nvPr/>
        </p:nvPicPr>
        <p:blipFill>
          <a:blip r:embed="rId1"/>
          <a:stretch/>
        </p:blipFill>
        <p:spPr>
          <a:xfrm>
            <a:off x="0" y="2565360"/>
            <a:ext cx="4103640" cy="3672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9clumpsLearningcurves2"/>
          <p:cNvPicPr/>
          <p:nvPr/>
        </p:nvPicPr>
        <p:blipFill>
          <a:blip r:embed="rId2"/>
          <a:stretch/>
        </p:blipFill>
        <p:spPr>
          <a:xfrm>
            <a:off x="4643280" y="2565360"/>
            <a:ext cx="410400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the 9 Gaussian clumps data: When CWM is reinitialized only with LMS CWM’s resulting cluster centers, beta and pcm, CWM can escape from this local mini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hen CWM is reinitialized with LMS CWM’s resulting cluster centers, beta, pcm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rianc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CWM ca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pe from this local min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successful c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is case after LMS CWM, it still can not escape from this local min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9clumps_fail2"/>
          <p:cNvPicPr/>
          <p:nvPr/>
        </p:nvPicPr>
        <p:blipFill>
          <a:blip r:embed="rId1"/>
          <a:stretch/>
        </p:blipFill>
        <p:spPr>
          <a:xfrm>
            <a:off x="1979640" y="3170160"/>
            <a:ext cx="4902120" cy="36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-Dimensional input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the input space to 3-dimens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can not escape from the local min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D view                         2D projection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3D9clumps_minima"/>
          <p:cNvPicPr/>
          <p:nvPr/>
        </p:nvPicPr>
        <p:blipFill>
          <a:blip r:embed="rId1"/>
          <a:stretch/>
        </p:blipFill>
        <p:spPr>
          <a:xfrm>
            <a:off x="324000" y="3519360"/>
            <a:ext cx="4392360" cy="3294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3D9clumps_minima2"/>
          <p:cNvPicPr/>
          <p:nvPr/>
        </p:nvPicPr>
        <p:blipFill>
          <a:blip r:embed="rId2"/>
          <a:stretch/>
        </p:blipFill>
        <p:spPr>
          <a:xfrm>
            <a:off x="5002200" y="4003560"/>
            <a:ext cx="374652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rricane Data (6 hours interv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nth    Day   Hour      Lat.     Long.     Dir.         ----Speed-----   -----Wind------  Pres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   28  18 UTC   14.9N  46.4W   305 deg   17 mph           30 mph              1007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   29   0 UTC    15.7N  47.6W   305 deg   16 mph           30 mph              1007 m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raining hurricane: 36 ,  (remove hurricane KARL and GE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validation hurricane: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 of test hurricane: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:69 hurric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 the validation set to decide the number of clusters: 3 linear local mod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combine the training set and validation set to train the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put: [ Lat(t), Long(t), Dir(t), Speed(t), Wind(t), Pressure(t)]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put: [Lat(t+1),Long(t+1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Learning rates: 0.01 for cluster centers, pcm, b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0.001 for vari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Add 1e-3 to input and output vari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tr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 of the pictures: http://weather.unisy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katrina"/>
          <p:cNvPicPr/>
          <p:nvPr/>
        </p:nvPicPr>
        <p:blipFill>
          <a:blip r:embed="rId1"/>
          <a:stretch/>
        </p:blipFill>
        <p:spPr>
          <a:xfrm>
            <a:off x="1523880" y="990720"/>
            <a:ext cx="609624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s (Top: CWM, Botton: LMSCWM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268360" y="6039000"/>
          <a:ext cx="3598920" cy="609480"/>
        </p:xfrm>
        <a:graphic>
          <a:graphicData uri="http://schemas.openxmlformats.org/drawingml/2006/table">
            <a:tbl>
              <a:tblPr/>
              <a:tblGrid>
                <a:gridCol w="1202040"/>
                <a:gridCol w="1195200"/>
                <a:gridCol w="12016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MS CW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796e-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6235e-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Picture 19" descr="katrinacomp"/>
          <p:cNvPicPr/>
          <p:nvPr/>
        </p:nvPicPr>
        <p:blipFill>
          <a:blip r:embed="rId1"/>
          <a:stretch/>
        </p:blipFill>
        <p:spPr>
          <a:xfrm>
            <a:off x="1547640" y="1125360"/>
            <a:ext cx="46800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rita"/>
          <p:cNvPicPr/>
          <p:nvPr/>
        </p:nvPicPr>
        <p:blipFill>
          <a:blip r:embed="rId1"/>
          <a:stretch/>
        </p:blipFill>
        <p:spPr>
          <a:xfrm>
            <a:off x="1476360" y="1413000"/>
            <a:ext cx="6095880" cy="48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2195640" y="6018120"/>
          <a:ext cx="3743280" cy="839880"/>
        </p:xfrm>
        <a:graphic>
          <a:graphicData uri="http://schemas.openxmlformats.org/drawingml/2006/table">
            <a:tbl>
              <a:tblPr/>
              <a:tblGrid>
                <a:gridCol w="1346040"/>
                <a:gridCol w="1197000"/>
                <a:gridCol w="1200240"/>
              </a:tblGrid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MS CW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143e-00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8712e-0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2" name="Picture 18" descr="ritacomp"/>
          <p:cNvPicPr/>
          <p:nvPr/>
        </p:nvPicPr>
        <p:blipFill>
          <a:blip r:embed="rId1"/>
          <a:stretch/>
        </p:blipFill>
        <p:spPr>
          <a:xfrm>
            <a:off x="1692360" y="1052640"/>
            <a:ext cx="532764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sil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epsilon"/>
          <p:cNvPicPr/>
          <p:nvPr/>
        </p:nvPicPr>
        <p:blipFill>
          <a:blip r:embed="rId1"/>
          <a:stretch/>
        </p:blipFill>
        <p:spPr>
          <a:xfrm>
            <a:off x="1619280" y="1341360"/>
            <a:ext cx="6095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2:31:29Z</dcterms:created>
  <dc:creator>admin</dc:creator>
  <dc:description/>
  <dc:language>en-US</dc:language>
  <cp:lastModifiedBy>Yellow</cp:lastModifiedBy>
  <dcterms:modified xsi:type="dcterms:W3CDTF">2017-04-13T06:19:45Z</dcterms:modified>
  <cp:revision>63</cp:revision>
  <dc:subject/>
  <dc:title>投影片 1</dc:title>
</cp:coreProperties>
</file>